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CF1-318B-4A98-AB62-EAFD26DF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AC2-74AC-4652-8BEF-3D182BCD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B98-E481-46C3-9084-0CF4A084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483-EBDD-4786-A196-95EC8D89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E5D0-FB3B-420B-B81D-259BFAEF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BC56-915E-4451-BEFF-DCFEFBCA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241A-ECFE-4181-AF1E-2CE910E6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E9AE-9615-4A3D-B4C2-AFE3DBEE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7C63-BD03-4D51-A5A4-93648C46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AF3A-347F-4F95-999D-084CAD00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8F07-910A-4E85-8B8E-33C3E5AB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966-905B-4993-BC68-82A0C188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882F-0814-48D6-842A-812E3FC9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3732-4528-4255-BC91-EA4F60C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A77B-9CC5-48E8-8D10-3296A0F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E324-2A2D-4B5E-B158-A79306FD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F87B-A84B-4B48-BA4C-E6EDC28A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91C-7095-4408-B504-75CE8D10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ED7-5894-4D01-8A8A-31F3C643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F05-3A23-4EAA-95AE-465B7530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CF5-0EB7-49C0-BE90-F16102D3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01F-FE33-453C-89D0-7806C0E9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59C-61F7-4021-8246-E6B4BF14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B6C-D5BD-4603-BD03-C811F328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13AD-20B7-4C4A-B6BC-E3B4CACA97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68D0-5E89-4B40-923E-AD849A1BF8FC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IBUJO ELECTRÓNICO 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1J302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990720" y="491004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ocente: Ing. Percy Ronald Hermosa Altez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700360" y="1341360"/>
            <a:ext cx="3870360" cy="51847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124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6f89f7"/>
                </a:solidFill>
                <a:latin typeface="Tahoma"/>
              </a:rPr>
              <a:t>Para la conexión de determinados elementos se utilizan colores específicos para identificar los terminales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7" name="Object 7"/>
          <p:cNvGraphicFramePr/>
          <p:nvPr/>
        </p:nvGraphicFramePr>
        <p:xfrm>
          <a:off x="2936880" y="2421000"/>
          <a:ext cx="37958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2421000"/>
                    <a:ext cx="37958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9"/>
          <p:cNvGraphicFramePr/>
          <p:nvPr/>
        </p:nvGraphicFramePr>
        <p:xfrm>
          <a:off x="2987640" y="4905360"/>
          <a:ext cx="38163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4905360"/>
                    <a:ext cx="3816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11"/>
          <p:cNvSpPr/>
          <p:nvPr/>
        </p:nvSpPr>
        <p:spPr>
          <a:xfrm>
            <a:off x="611280" y="4005360"/>
            <a:ext cx="82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6f89f7"/>
                </a:solidFill>
                <a:latin typeface="Tahoma"/>
              </a:rPr>
              <a:t>Permite conocer las características eléctricas de los diferentes componentes del circuito.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6560" y="-1004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9640" y="6381360"/>
            <a:ext cx="7092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40458c"/>
                </a:solidFill>
                <a:latin typeface="Tahoma"/>
              </a:rPr>
              <a:t>Diagrama de conexión de un circuito de arranque de automóvil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54" name="Object 9"/>
          <p:cNvGraphicFramePr/>
          <p:nvPr/>
        </p:nvGraphicFramePr>
        <p:xfrm>
          <a:off x="2050920" y="907920"/>
          <a:ext cx="5977080" cy="548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907920"/>
                    <a:ext cx="5977080" cy="54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-100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7" name="Picture 7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 rot="21469200">
            <a:off x="1849320" y="836640"/>
            <a:ext cx="5297760" cy="576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QUEMAS Y DIAGRAM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411280" y="3357720"/>
            <a:ext cx="58183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Un esquema es la representación gráfica del montaje y conexión de los diferentes elementos que conforman un circuito eléctrico o electrónico.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Muchas veces los esquemas no corresponden al montaje real del circuito, es así como se utilizan diversos tipos de diagramas, según la complejidad del circuito o lo que se desee representar.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 Elemental o de Principio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70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40458c"/>
                </a:solidFill>
                <a:latin typeface="Tahoma"/>
              </a:rPr>
              <a:t>Este esquema muestra los elementos de un circuito o aparato que son de interés para el estudio de su funcionamiento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40458c"/>
                </a:solidFill>
                <a:latin typeface="Tahoma"/>
              </a:rPr>
              <a:t>Estos elementos se colocan o ubican en la forma más clara posible, no necesariamente muestran la posición real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3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40458c"/>
                </a:solidFill>
                <a:latin typeface="Tahoma"/>
              </a:rPr>
              <a:t>Son de mucha utilidad para los profesionales ya que sirven de guías para el diseño de instalaciones y aparatos eléctricos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4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40458c"/>
                </a:solidFill>
                <a:latin typeface="Tahoma"/>
              </a:rPr>
              <a:t>Además permiten analizar fácilmente el funcionamiento del circuito siguiendo  el recorrido de la corriente a través de los diferentes conductores y componentes del mismo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4859280" y="2205000"/>
          <a:ext cx="3960720" cy="253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205000"/>
                    <a:ext cx="396072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1249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iagramas Esquemátic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Un diagrama esquemático es el que se muestra por medio de “simbolos gráficos” las conecciones eléctricas y las funciones de las diferentes partes de un circuito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l diagrama esquemático es la forma normal de comunicar información en electricidad y electrónic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Los símbolos y las líneas relacionadas se emplean para mostrar cómo se conectan los elementos de un circuito y cómo se relacionan unos con otro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Usando el diagrama se puede seguir la operación del circuito de principio a fin, debido a esto los diagramas esquemáticos son ampliamente utilizados por ingenieros y técnicos en todo tipo de circuitos,  hasta su construcción y mantenimiento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Un diagrama esquemático no indica la posición física de los componentes ni de los alambres que se conectan a los component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iagramas Esquemátic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623880" y="1549440"/>
            <a:ext cx="75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Tahoma"/>
              </a:rPr>
              <a:t>Diagrama esquemático de una radio de dos transistores.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23880" y="5013360"/>
            <a:ext cx="43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40458c"/>
                </a:solidFill>
                <a:latin typeface="Tahoma"/>
              </a:rPr>
              <a:t>Identificación de componentes: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148360" y="5354640"/>
            <a:ext cx="367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L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Bobina de antena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Q1, Q2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Transistores PNP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R1, R2, R3   : Resistores de carbón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S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Interruptor monopolar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unidireccional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84360" y="5354640"/>
            <a:ext cx="4379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BT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Batería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C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Capacitor variabl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C2, C3, C4   : Capacitores fijos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CR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Diodo de silicio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J1, J2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Receptáculos de punta aislada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4" name="Object 12"/>
          <p:cNvGraphicFramePr/>
          <p:nvPr/>
        </p:nvGraphicFramePr>
        <p:xfrm>
          <a:off x="611280" y="1916280"/>
          <a:ext cx="828036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828036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iagramas Esquemátic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68360" y="651672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40458c"/>
                </a:solidFill>
                <a:latin typeface="Tahoma"/>
              </a:rPr>
              <a:t>Diagrama esquemático de control H y V 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Picture 9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251080" y="1125360"/>
            <a:ext cx="4697280" cy="547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quemas Desarrollad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3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SzPct val="172354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En estos esquemas los símbolos de los diferentes elementos que conforman el circuito se dibujan en forma que se aproximen lo más posible a la recta horizontal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524"/>
              </a:spcBef>
              <a:buSzPct val="172354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La alimentación del circuito se representa mediante dos líneas paralelas: (+) y (-) en circuitos de corriente continua, o Fase (F) y Neutro (N), en corriente altern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2124000" y="3036960"/>
          <a:ext cx="5040360" cy="37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3036960"/>
                    <a:ext cx="504036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quemas Desarrollad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SzPct val="172354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Permiten analizar el funcionamiento del circui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524"/>
              </a:spcBef>
              <a:buSzPct val="172354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Los componentes del circuito no indican su posición real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5" name="Object 5"/>
          <p:cNvGraphicFramePr/>
          <p:nvPr/>
        </p:nvGraphicFramePr>
        <p:xfrm>
          <a:off x="971640" y="3306600"/>
          <a:ext cx="360036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306600"/>
                    <a:ext cx="360036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7"/>
          <p:cNvGraphicFramePr/>
          <p:nvPr/>
        </p:nvGraphicFramePr>
        <p:xfrm>
          <a:off x="5383080" y="1700280"/>
          <a:ext cx="2573640" cy="46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3080" y="1700280"/>
                    <a:ext cx="2573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SzPct val="172354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También es denominado </a:t>
            </a:r>
            <a:r>
              <a:rPr b="0" i="1" lang="es-ES" sz="2100" spc="-1" strike="noStrike">
                <a:solidFill>
                  <a:srgbClr val="660066"/>
                </a:solidFill>
                <a:latin typeface="Tahoma"/>
              </a:rPr>
              <a:t>Diagrama de Alambrado</a:t>
            </a: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. Muestra las conexiones de los alambres  de una manera pictórica o de manera gráfic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524"/>
              </a:spcBef>
              <a:buSzPct val="172354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Los componentes se identifican por medio de su nombre, y muestra la ubicación relativa de los diferentes elementos de un circuito en un espacio dad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524"/>
              </a:spcBef>
              <a:buSzPct val="172354"/>
              <a:buBlip>
                <a:blip r:embed="rId3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Otras características: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6f89f7"/>
                </a:solidFill>
                <a:latin typeface="Tahoma"/>
              </a:rPr>
              <a:t>Los terminales de los diferentes componentes se representan mediante letras y/o números para facilitar el montaje o reparación respectiva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1" name="Object 8"/>
          <p:cNvGraphicFramePr/>
          <p:nvPr/>
        </p:nvGraphicFramePr>
        <p:xfrm>
          <a:off x="3894120" y="4778280"/>
          <a:ext cx="2190600" cy="16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94120" y="4778280"/>
                    <a:ext cx="219060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3:46:40Z</dcterms:created>
  <dc:creator>HERMOSA ALTEZ</dc:creator>
  <dc:description/>
  <dc:language>en-US</dc:language>
  <cp:lastModifiedBy>user</cp:lastModifiedBy>
  <dcterms:modified xsi:type="dcterms:W3CDTF">2011-09-20T19:21:10Z</dcterms:modified>
  <cp:revision>162</cp:revision>
  <dc:subject/>
  <dc:title>DIBUJO ELECTRÓNICO I</dc:title>
</cp:coreProperties>
</file>